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77C-F92A-4B2E-B052-886C48CD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9BF-E537-4361-92A5-689B8908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0E3-193E-45F1-9F4F-02886FEC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4EF-184D-4733-AF35-F54ACE4B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8FD-4745-4725-A5C8-83A8310B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C3B-3BB8-4322-A6C5-757CB232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218-EDAD-42FE-BE1D-1859737F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9A6-B495-4FCC-B166-53FD54C4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177-F993-4AF9-BED0-491CF7DE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5DA-FB0D-451F-AD68-8611BAF9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54F-40C4-4EDB-8728-576DA3A5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292-3C45-4F17-B676-BD1871E3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B340-4CE3-43E9-9DBE-6E5639689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236520"/>
            <a:ext cx="883944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39600"/>
            <a:ext cx="883944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27160"/>
            <a:ext cx="899172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21:07:34Z</dcterms:created>
  <dc:creator>ASD</dc:creator>
  <dc:description/>
  <dc:language>en-US</dc:language>
  <cp:lastModifiedBy>ASD</cp:lastModifiedBy>
  <dcterms:modified xsi:type="dcterms:W3CDTF">2010-06-23T21:07:48Z</dcterms:modified>
  <cp:revision>1</cp:revision>
  <dc:subject/>
  <dc:title>Slide 1</dc:title>
</cp:coreProperties>
</file>